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DC7-BF2D-49F7-B7FE-B422812E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214-4ECE-4944-B6A2-D809839C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9C6-AA7C-47A0-B667-776C80A6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6A2-E57C-4057-B973-706FA1CE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9E1-F87E-4844-AEB4-AD425EC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629-5C04-4388-AD47-FA24DBB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EC0-949F-4446-85E9-5789550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A37-AFB6-4305-B792-A630C47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A07-D2D4-4E7E-AB98-279EBF5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DF3-EA08-44CB-9E8F-6830589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BFC-CA2C-4943-8BA0-07722A5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756-8C40-42D6-BE08-0946078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EA2-C14A-4184-BFEE-FA848D5A1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itcult.ru/u/dd/news/10807/image.jpg" TargetMode="External"/><Relationship Id="rId2" Type="http://schemas.openxmlformats.org/officeDocument/2006/relationships/hyperlink" Target="http://sch10.soligorsk.edu.by/ru/sm.aspx?guid=9153" TargetMode="External"/><Relationship Id="rId3" Type="http://schemas.openxmlformats.org/officeDocument/2006/relationships/hyperlink" Target="https://img.labirint.ru/rcimg/089f5402cda5e5a973862799f7718378/1920x1080/comments_pic/1222/09labntvt1338573583.jpg?1338573589" TargetMode="External"/><Relationship Id="rId4" Type="http://schemas.openxmlformats.org/officeDocument/2006/relationships/hyperlink" Target="http://rasskajem.ru/wp-content/uploads/2012/06/Metro-04.jpg" TargetMode="External"/><Relationship Id="rId5" Type="http://schemas.openxmlformats.org/officeDocument/2006/relationships/hyperlink" Target="https://nukadeti.ru/content/images/essence/tale/1045/2463.jpg" TargetMode="External"/><Relationship Id="rId6" Type="http://schemas.openxmlformats.org/officeDocument/2006/relationships/hyperlink" Target="https://nukadeti.ru/content/images/essence/tale/1045/2460.jpg" TargetMode="External"/><Relationship Id="rId7" Type="http://schemas.openxmlformats.org/officeDocument/2006/relationships/hyperlink" Target="https://vini-puh.ru/wp-content/uploads/2018/01/Metro_-_Nikolaj_Nosov_2.jpg" TargetMode="External"/><Relationship Id="rId8" Type="http://schemas.openxmlformats.org/officeDocument/2006/relationships/hyperlink" Target="https://i.ytimg.com/vi/2g18kO6APwQ/maxresdefault.jpghttps://i.ytimg.com/vi/2g18kO6APwQ/maxresdefault.jpg" TargetMode="External"/><Relationship Id="rId9" Type="http://schemas.openxmlformats.org/officeDocument/2006/relationships/hyperlink" Target="https://egorschool13.edumsko.ru/uploads/2000/1075/section/48795/img134.jpg" TargetMode="External"/><Relationship Id="rId10" Type="http://schemas.openxmlformats.org/officeDocument/2006/relationships/hyperlink" Target="https://fhd.multiurok.ru/f/f/2/ff29720e61928b29cd6bc2d40d9dc44a6d2552e6/phpS7ZlVd_urok-Netro_7_1.jpeghttps://fhd.multiurok.ru/f/f/2/ff29720e61928b29cd6bc2d40d9dc44a6d2552e6/phpS7ZlVd_urok-Netro_7_1.jpeg" TargetMode="External"/><Relationship Id="rId11" Type="http://schemas.openxmlformats.org/officeDocument/2006/relationships/hyperlink" Target="http://img0.safereactor.cc/pics/post/full/&#1084;&#1077;&#1090;&#1088;&#1086;-&#1085;&#1072;&#1088;&#1091;&#1096;&#1077;&#1085;&#1080;&#1077;-&#1088;&#1080;&#1089;&#1091;&#1085;&#1086;&#1082;-2296858.jpeg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5331600"/>
            <a:ext cx="8207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Шепеленко Татьяна Анатольевн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Персональный сайт: </a:t>
            </a:r>
            <a:r>
              <a:rPr b="1" lang="en-US" sz="2600" spc="-1" strike="noStrike">
                <a:solidFill>
                  <a:srgbClr val="009900"/>
                </a:solidFill>
                <a:latin typeface="Monotype Corsiva"/>
              </a:rPr>
              <a:t>www.shepelenko.ucoz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-242640"/>
            <a:ext cx="8207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Муниципальное казён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ая средняя общеобразовательная школа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"/>
          <p:cNvPicPr/>
          <p:nvPr/>
        </p:nvPicPr>
        <p:blipFill>
          <a:blip r:embed="rId1"/>
          <a:stretch/>
        </p:blipFill>
        <p:spPr>
          <a:xfrm>
            <a:off x="2268360" y="17762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икогда не подсовывай пальцы под движущийся поручень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рискуешь получить тяжёлую трав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rcRect l="4326" t="0" r="4326" b="0"/>
          <a:stretch/>
        </p:blipFill>
        <p:spPr>
          <a:xfrm>
            <a:off x="741240" y="1268280"/>
            <a:ext cx="7734600" cy="5432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гда не занимайся такими глупостями, как бросание монет или других мелких предметов на лестницу эскалатора. Это может вызвать поломку дорогого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1146240" y="1557360"/>
            <a:ext cx="6924600" cy="50482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 эскалаторе метро будь внимателен, чтобы не получить тяжёлую трав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9800" cy="55864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4284720" y="2125800"/>
            <a:ext cx="464508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дети и подростки, сойдя со ступенек эскалатора, останавливаются, поджидая своих приятелей. Этого делать нельзя! Ведь сзади находятся другие пассажиры, которым остановившиеся ме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3902040" cy="6553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дземном вестибюле станции метро необходимо быть внимательными и осторо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485640" y="1197000"/>
            <a:ext cx="8245440" cy="5545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той напротив дверей прибывшего на станцию поезда. Дай возможность пассажирам спокойно выти из ваг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914400" y="1197000"/>
            <a:ext cx="7388280" cy="54975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 осторожен, когда заходишь в вагон. Если на станции собралось много людей, во время посадки может начаться толкучка и тебя могут прижать к вагону или даже столкнуть на ре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rcRect l="5114" t="0" r="4329" b="0"/>
          <a:stretch/>
        </p:blipFill>
        <p:spPr>
          <a:xfrm>
            <a:off x="431640" y="1557360"/>
            <a:ext cx="8280720" cy="5143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5292720" y="2813040"/>
            <a:ext cx="3708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прислоняйся к автоматическим дверям вагонов мет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24000" y="190440"/>
            <a:ext cx="4716360" cy="6445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11592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://litcult.ru/u/dd/news/10807/im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://sch10.soligorsk.edu.by/ru/sm.aspx?guid=915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s://img.labirint.ru/rcimg/089f5402cda5e5a973862799f7718378/1920x1080/comments_pic/1222/09labntvt1338573583.jpg?133857358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://rasskajem.ru/wp-content/uploads/2012/06/Metro-0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nukadeti.ru/content/images/essence/tale/1045/24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nukadeti.ru/content/images/essence/tale/1045/24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vini-puh.ru/wp-content/uploads/2018/01/Metro_-_Nikolaj_Nosov_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s://i.ytimg.com/vi/2g18kO6APwQ/maxresdefault.jpghttps://i.ytimg.com/vi/2g18kO6APwQ/maxresdefault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https://egorschool13.edumsko.ru/uploads/2000/1075/section/48795/img13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0"/>
              </a:rPr>
              <a:t>https://fhd.multiurok.ru/f/f/2/ff29720e61928b29cd6bc2d40d9dc44a6d2552e6/phpS7ZlVd_urok-Netro_7_1.jpeghttps://fhd.multiurok.ru/f/f/2/ff29720e61928b29cd6bc2d40d9dc44a6d2552e6/phpS7ZlVd_urok-Netro_7_1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1"/>
              </a:rPr>
              <a:t>http://img0.safereactor.cc/pics/post/full/%D0%BC%D0%B5%D1%82%D1%80%D0%BE-%D0%BD%D0%B0%D1%80%D1%83%D1%88%D0%B5%D0%BD%D0%B8%D0%B5-%D1%80%D0%B8%D1%81%D1%83%D0%BD%D0%BE%D0%BA-2296858.jpe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ds02.infourok.ru/uploads/ex/0f16/0007b035-a8c1dd4b/hello_html_7353cb2b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worldofschool.ru/public/page_images/1123/77_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media.timeout.com/images/103473159/im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5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nukadeti.ru/content/images/essence/tale/1045/24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vokabre.com/wordpress/uploads/2017/08/vokabre-paintings-moscow-album-2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-6480" y="24210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Правила поведения пассажиров в метр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етро пассажиры должны соблюдать определённая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523800" y="836640"/>
            <a:ext cx="8096400" cy="5788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6156360" y="981000"/>
            <a:ext cx="284328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и, по которым ходят поезда метро, нигде не пересекаются ни с путями других транспортных средств, ни с путями пассажиров. Это позволяет поездам метро ездить с большой скоростью, оставаясь при этом самым безопасным видом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810400" cy="5321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203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метро пассажирам нужно соблюдать правила безопас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rcRect l="0" t="18503" r="0" b="6953"/>
          <a:stretch/>
        </p:blipFill>
        <p:spPr>
          <a:xfrm>
            <a:off x="527040" y="836640"/>
            <a:ext cx="8163000" cy="58341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324000" y="2827440"/>
            <a:ext cx="51116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осторожными нужно быть, спускаясь на эскала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5724360" y="231840"/>
            <a:ext cx="2808360" cy="6389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ять надо с правой стороны, лицом по ходу эскалатора, и во время спуска держаться за поруч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42880" y="1197000"/>
            <a:ext cx="8058240" cy="5419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108000" y="5452920"/>
            <a:ext cx="88218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скалатор может резко остановиться. Если ты не будешь держаться за поручни, от резкого толчка можно упасть и получить трав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997600" cy="5111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5219640" y="2847960"/>
            <a:ext cx="3781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идеть на ступенях эскалатора и ставить на поручни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16000" y="181080"/>
            <a:ext cx="4752720" cy="653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user</cp:lastModifiedBy>
  <dcterms:modified xsi:type="dcterms:W3CDTF">2020-07-02T12:04:14Z</dcterms:modified>
  <cp:revision>149</cp:revision>
  <dc:subject/>
  <dc:title>Слайд 1</dc:title>
</cp:coreProperties>
</file>